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6A31-6504-480D-BF2D-D177294E51D0}" type="slidenum">
              <a:rPr b="0" lang="en-S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F924-D581-4D1F-96B5-ACDEAD9DD3A9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F29-72CF-4341-B86A-33188D97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75D-357E-4218-A836-531D2523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7FC-399D-4C31-9895-E6028E4E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D29-195C-4F4E-A33B-204064D9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E4D8-D118-4760-9A1D-63BDDC75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26DF-1EAC-40F0-B6D6-5FD7726A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3B9B-67B5-4CE3-B85C-94A3848C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9D59-BEC2-47E3-A707-072FEF08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DC09-D883-44EC-9504-E7D8B2A7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6C2F-D694-4445-9491-9B8A4860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CEAA-7B74-402A-BFBF-C3049ACB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211-85C2-4227-AB73-6463AB99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CAD1-27D6-4036-BCAB-EA257ABC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DDE9-02C6-4CD3-8A2A-97A9EFE6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1EAA-5EC7-4E39-88BC-5562448B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DBD4-83E8-48A3-81BF-54D2C379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61A1-B75C-4B67-A865-6B087292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1DBA-AF93-4599-86A3-A7F97E48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35D48-94A6-4439-8940-643D788A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14AB0-7AF0-4D3A-9831-11219698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EAE7F-7721-4DEA-807B-5CAFDD31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6695-2686-474B-8161-7DEADCDA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694-FB71-40CD-B51C-4ABA9301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F4C10-CC3C-4783-8999-627204D1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F6CEB-F02B-4972-ABFA-9C46E735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3155B-3CA4-4E2B-9232-F0465E94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ADF20-9EB0-473C-BBD7-271736E5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D4D04-989D-458D-A986-88AFE91F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95217-23D1-49C9-83E0-275FB58C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6A2B6-379D-4DE7-B2A8-C27D298D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450AC-7AE9-4C40-8FC6-F31DF651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9B608-98B6-4493-90F1-0CEEE7A3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96EAD-CA2D-4DD4-AF8D-48227C2A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540-CB29-4BD5-BAD0-FBDDCD78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824A1-7188-4A1C-9A01-873D506D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7A9A6-ACE9-40DD-BF38-B718EB71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90CB2-21BB-43CB-9158-B13BFBFF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054D8-5056-49C7-AEE5-03814D51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B3C26-3473-468C-BAE9-3D23C66A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4163C-500B-46AD-9554-FF2D89E7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4AAE3-B95E-4EFD-B73F-7148061C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D2B00-E4B8-4467-8F93-009B5DD0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7F055-010A-4FC6-8A3C-587E6DE2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696-551B-470F-9E49-6E83E492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C067-6007-4783-89B0-97A3991B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4B8-D51E-4299-AC97-BAE1510D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8D3-0D83-4203-8B36-8523E609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A57-A653-408A-B2C6-175A36A2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2C8F-351F-4E7D-ADF0-1E1ADF2E05A1}" type="slidenum">
              <a:rPr b="0" lang="en-S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C9AD-3825-4ED9-9CBB-97D93A2063D7}" type="slidenum">
              <a:rPr b="0" lang="en-SG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1218-3249-4AA0-84E4-ED6AD777348C}" type="slidenum">
              <a:rPr b="0" lang="en-SG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BCA6-213E-48AB-BD7F-A3AF09ECF5B2}" type="slidenum">
              <a:rPr b="0" lang="en-S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ccc.gov.sg/Households/es_guide.sht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ccc.gov.sg/Households/es_guide.s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706320" y="1384200"/>
            <a:ext cx="7864560" cy="201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d0d0d"/>
                </a:solidFill>
                <a:latin typeface="Calibri"/>
              </a:rPr>
              <a:t>My IRS question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1000080" y="1714680"/>
            <a:ext cx="7572600" cy="126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8f1fc"/>
                </a:solidFill>
                <a:latin typeface="Comic Sans MS"/>
              </a:rPr>
              <a:t>How many people in my class use more electricity than they/their families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ypothe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people use more electricity than needed. (e.g. not turning off the light/ television when not in use, wasting air-conditioner by opening the door and keeping it open when not in the 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4617b"/>
                </a:solidFill>
                <a:latin typeface="Calibri"/>
              </a:rPr>
              <a:t>Background Research: Amount of electricity used by electrical appliances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nccc.gov.sg/Households/es_guide.sht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ives good electricity-related inform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hod(s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rv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nccc.gov.sg/Households/es_guide.sht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6:52:50Z</dcterms:created>
  <dc:creator>nicholas</dc:creator>
  <dc:description/>
  <dc:language>en-US</dc:language>
  <cp:lastModifiedBy>nicholas</cp:lastModifiedBy>
  <dcterms:modified xsi:type="dcterms:W3CDTF">2010-04-13T08:44:34Z</dcterms:modified>
  <cp:revision>41</cp:revision>
  <dc:subject/>
  <dc:title>Slide 1</dc:title>
</cp:coreProperties>
</file>